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4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D210-4C94-4904-8BA1-AA430591BD3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017D-1ABE-4BED-9166-ABF093D61E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68A1-2D40-4CBD-A567-50D87A0F5C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BF6C-4568-4117-A2CE-BE86D739C31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5347-F805-461E-B8BE-ABE63C7390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4CE9-EE76-453C-8300-028111535D0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084-3CFB-4776-9042-78C42CD7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76C-7E89-486B-90E8-D7134CC8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DCC-AB97-4C44-8948-5D09836E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5E6-8DA7-4399-9354-3CFB6F3A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DE6-6099-42A6-B4E5-01C2CEF8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733-1D7C-4C83-8D12-A1CCA0D6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FD0-A3EA-4756-BD1D-797B8C69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B2C-FA7E-4BCE-8C09-E2455DF0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39B-5A2E-4D20-9B76-FC3E10BB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89E-1FD9-48D4-AA12-56A027AC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ABE-0621-431C-A1DB-9622ACE7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E3F-24D4-40C0-921A-16CCC82F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65F8-D6C2-450A-8F9A-466B7ADE1F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tângulo 11"/>
          <p:cNvGrpSpPr/>
          <p:nvPr/>
        </p:nvGrpSpPr>
        <p:grpSpPr>
          <a:xfrm>
            <a:off x="365040" y="463680"/>
            <a:ext cx="6688080" cy="1895400"/>
            <a:chOff x="365040" y="463680"/>
            <a:chExt cx="6688080" cy="1895400"/>
          </a:xfrm>
        </p:grpSpPr>
        <p:pic>
          <p:nvPicPr>
            <p:cNvPr id="49" name="Retângulo 11" descr=""/>
            <p:cNvPicPr/>
            <p:nvPr/>
          </p:nvPicPr>
          <p:blipFill>
            <a:blip r:embed="rId2"/>
            <a:stretch/>
          </p:blipFill>
          <p:spPr>
            <a:xfrm>
              <a:off x="365040" y="463680"/>
              <a:ext cx="668808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28760" y="500040"/>
              <a:ext cx="657216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CaixaDeTexto 8"/>
          <p:cNvSpPr/>
          <p:nvPr/>
        </p:nvSpPr>
        <p:spPr>
          <a:xfrm>
            <a:off x="571680" y="3214800"/>
            <a:ext cx="8072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99"/>
                </a:solidFill>
                <a:latin typeface="Arial"/>
              </a:rPr>
              <a:t>A </a:t>
            </a:r>
            <a:r>
              <a:rPr b="1" i="1" lang="pt-BR" sz="2400" spc="-1" strike="noStrike">
                <a:solidFill>
                  <a:srgbClr val="262699"/>
                </a:solidFill>
                <a:latin typeface="Arial"/>
              </a:rPr>
              <a:t>Cobrança pelo Uso dos Recursos Hídricos nas Bacias PCJ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G:\Gustavo\Arquivos_de_Imagens\LogoTipoAgenciPCJ\LogoTipoPCJ.jpg"/>
          <p:cNvPicPr/>
          <p:nvPr/>
        </p:nvPicPr>
        <p:blipFill>
          <a:blip r:embed="rId3"/>
          <a:srcRect l="78849" t="0" r="0" b="0"/>
          <a:stretch/>
        </p:blipFill>
        <p:spPr>
          <a:xfrm>
            <a:off x="7000920" y="500040"/>
            <a:ext cx="1555560" cy="1785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3" name="CaixaDeTexto 3"/>
          <p:cNvSpPr/>
          <p:nvPr/>
        </p:nvSpPr>
        <p:spPr>
          <a:xfrm>
            <a:off x="1908000" y="5143680"/>
            <a:ext cx="547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191966"/>
                </a:solidFill>
                <a:latin typeface="Arial"/>
              </a:rPr>
              <a:t>Eduardo Lovo Paschoalott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191966"/>
                </a:solidFill>
                <a:latin typeface="Arial"/>
                <a:ea typeface="MS Gothic"/>
              </a:rPr>
              <a:t>Presidente em exercício do CBH-PCJ e PCJ Federal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9"/>
          <p:cNvSpPr/>
          <p:nvPr/>
        </p:nvSpPr>
        <p:spPr>
          <a:xfrm>
            <a:off x="571680" y="549360"/>
            <a:ext cx="64292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itês das Bacias Hidrográficas dos Rios Piracicaba, Capivari e Jundiaí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itê da Bacia Hidrográfica dos Rios Piracicaba e Jaguari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ângulo 10"/>
          <p:cNvSpPr/>
          <p:nvPr/>
        </p:nvSpPr>
        <p:spPr>
          <a:xfrm>
            <a:off x="642960" y="500040"/>
            <a:ext cx="6357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apaCobrança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aixaDeTexto 3"/>
          <p:cNvSpPr/>
          <p:nvPr/>
        </p:nvSpPr>
        <p:spPr>
          <a:xfrm>
            <a:off x="642960" y="785880"/>
            <a:ext cx="7858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99"/>
                </a:solidFill>
                <a:uFillTx/>
                <a:latin typeface="Arial"/>
              </a:rPr>
              <a:t>Previsão de Arrecadação no ano de 200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ixaDeTexto 13"/>
          <p:cNvSpPr/>
          <p:nvPr/>
        </p:nvSpPr>
        <p:spPr>
          <a:xfrm>
            <a:off x="0" y="1628640"/>
            <a:ext cx="914400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62699"/>
                </a:solidFill>
                <a:latin typeface="Arial"/>
              </a:rPr>
              <a:t>Cobrança Federal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99"/>
                </a:solidFill>
                <a:latin typeface="Arial"/>
              </a:rPr>
              <a:t>R$ 17.600.000,00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62699"/>
                </a:solidFill>
                <a:latin typeface="Arial"/>
              </a:rPr>
              <a:t>Cobrança Paulista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99"/>
                </a:solidFill>
                <a:latin typeface="Arial"/>
              </a:rPr>
              <a:t>R$ 16.500.000,0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62699"/>
                </a:solidFill>
                <a:latin typeface="Arial"/>
              </a:rPr>
              <a:t>Cobrança Mineira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99"/>
                </a:solidFill>
                <a:latin typeface="Arial"/>
              </a:rPr>
              <a:t>R$ 120.000,0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341360"/>
            <a:ext cx="91440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Aplicação dos Recursos das Cobranças PCJ e do FEHIDRO/PCJ</a:t>
            </a:r>
            <a:endParaRPr b="1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2421000"/>
            <a:ext cx="914400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Cobrança Federal PCJ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546120" y="692280"/>
            <a:ext cx="9690120" cy="51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8691480" cy="58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9024840" cy="611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44640"/>
            <a:ext cx="914400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Cobrança Paulista PCJ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76800" cy="370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09880" y="3286080"/>
            <a:ext cx="533412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147600" y="1052640"/>
            <a:ext cx="929160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UGRHIs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71680" y="428760"/>
            <a:ext cx="7858080" cy="5238720"/>
          </a:xfrm>
          <a:prstGeom prst="rect">
            <a:avLst/>
          </a:prstGeom>
          <a:ln w="0">
            <a:noFill/>
          </a:ln>
        </p:spPr>
      </p:pic>
      <p:sp>
        <p:nvSpPr>
          <p:cNvPr id="57" name="CaixaDeTexto 2"/>
          <p:cNvSpPr/>
          <p:nvPr/>
        </p:nvSpPr>
        <p:spPr>
          <a:xfrm>
            <a:off x="214200" y="51436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91966"/>
                </a:solidFill>
                <a:latin typeface="Arial"/>
              </a:rPr>
              <a:t>Bacias PCJ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347760" y="907920"/>
            <a:ext cx="9491760" cy="53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2480" y="793800"/>
            <a:ext cx="81108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2421000"/>
            <a:ext cx="9144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FEHIDRO PCJ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66960" y="757080"/>
            <a:ext cx="7210080" cy="534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1177920"/>
            <a:ext cx="7648560" cy="41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6400800" cy="3425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305160" y="3579840"/>
            <a:ext cx="583884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35820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1773360"/>
            <a:ext cx="691200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ISTRIBUIÇÃO DE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CURSOS EM 2009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TAPA I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58840" y="830160"/>
          <a:ext cx="8715240" cy="5281560"/>
        </p:xfrm>
        <a:graphic>
          <a:graphicData uri="http://schemas.openxmlformats.org/drawingml/2006/table">
            <a:tbl>
              <a:tblPr/>
              <a:tblGrid>
                <a:gridCol w="342720"/>
                <a:gridCol w="2104920"/>
                <a:gridCol w="2067120"/>
                <a:gridCol w="1103040"/>
                <a:gridCol w="1046160"/>
                <a:gridCol w="1074960"/>
                <a:gridCol w="519120"/>
                <a:gridCol w="457200"/>
              </a:tblGrid>
              <a:tr h="234720">
                <a:tc grid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ÇÃO DE EMPREENDIMENTOS A SEREM INDICADOS PELOS COMITÊS PCJ EM 31/03/200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.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mador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iado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da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apartida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upo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6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N - Companhia de Desenvolvimento de Nova Odess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tor Tronco do Córrego Lopes - Margem Direit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7.371,6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.012,09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.383,69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N - Companhia de Desenvolvimento de Nova Odess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tor Tronco do Córrego Capuava - Margem Esquerda, Trecho Av. Ampélio Gazzeta até Ribeirão Quilomb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9.723,5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.228,49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.952,0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E- Departamento de Água e Esgoto Jundiaí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ção de Interceptor para despoluição do rio Capivari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8.368,8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.245,8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0.614,7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E- Departamento de Água e Esgoto Jundiaí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anejamento do interceptor do Rio Jundiaí -Mirim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80.784,01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0.522,67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01.306,6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do Município de Piracicab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rando nossas águas, resgatando nossa história: educação ambiental pelo Rio Piracicab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.001,5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.231,76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1.233,2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31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Corumbataí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o Diretor de Combate às Perdas Totais no Sitema de Distribuição de Água do Município de Corumbataí - SP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00,0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63,0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.263,0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Iracemá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assoreamento da lagoa Anaeróbia - ETE - Iracemá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4.751,9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.750,2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7.502,15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Iracemá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e Programa de Redução e Controle de Perdas de Àgua na área Urbana no Município de Iracemá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.773,8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974,87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.748,7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Pedreir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o Diretor de Combate às Perdas Totais no Sitema de Distribuição de Água do Município de Pedreira - SP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.397,6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465,8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.863,5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Pedreir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co de Dados Georreferenciados com Ênfase em Recursos Hídrico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.639,1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.879,7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.518,8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Várzea Paulist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o Diretor de Gerenciamento de Recursos Hídricos do município de Várzea Paulist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3.672,0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.224,0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4.896,0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CaixaDeTexto 5"/>
          <p:cNvSpPr/>
          <p:nvPr/>
        </p:nvSpPr>
        <p:spPr>
          <a:xfrm>
            <a:off x="330120" y="115920"/>
            <a:ext cx="850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99"/>
                </a:solidFill>
                <a:uFillTx/>
                <a:latin typeface="Arial"/>
              </a:rPr>
              <a:t>Distribuição de Recursos FEHIDRO/Cobranças PCJ 200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85960" y="3429000"/>
          <a:ext cx="5715000" cy="2286000"/>
        </p:xfrm>
        <a:graphic>
          <a:graphicData uri="http://schemas.openxmlformats.org/drawingml/2006/table">
            <a:tbl>
              <a:tblPr/>
              <a:tblGrid>
                <a:gridCol w="3500280"/>
                <a:gridCol w="1143000"/>
                <a:gridCol w="1071720"/>
              </a:tblGrid>
              <a:tr h="469800"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os de Us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dad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453960">
                <a:tc>
                  <a:txBody>
                    <a:bodyPr lIns="114480" rIns="114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tação de água bruta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m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114480" rIns="114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o de água bruta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m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114480" rIns="114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çamento de carga orgânica DB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Kg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114480" rIns="114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sição de bacia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m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CaixaDeTexto 9"/>
          <p:cNvSpPr/>
          <p:nvPr/>
        </p:nvSpPr>
        <p:spPr>
          <a:xfrm>
            <a:off x="1285920" y="554040"/>
            <a:ext cx="6572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62699"/>
                </a:solidFill>
                <a:uFillTx/>
                <a:latin typeface="Arial"/>
              </a:rPr>
              <a:t>Valores da Cobrança nas Bacias PCJ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3"/>
          <p:cNvSpPr/>
          <p:nvPr/>
        </p:nvSpPr>
        <p:spPr>
          <a:xfrm>
            <a:off x="714240" y="1428840"/>
            <a:ext cx="77868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2006 – implantação da Cobrança Federal PCJ</a:t>
            </a: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2007 – implantação da Cobrança Paulista PCJ</a:t>
            </a: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2009 – previsão de implantação da Cobrança Mineira PCJ</a:t>
            </a: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20760" y="2822400"/>
          <a:ext cx="8572320" cy="2581560"/>
        </p:xfrm>
        <a:graphic>
          <a:graphicData uri="http://schemas.openxmlformats.org/drawingml/2006/table">
            <a:tbl>
              <a:tblPr/>
              <a:tblGrid>
                <a:gridCol w="336600"/>
                <a:gridCol w="2071440"/>
                <a:gridCol w="2032200"/>
                <a:gridCol w="1085760"/>
                <a:gridCol w="1028520"/>
                <a:gridCol w="1057320"/>
                <a:gridCol w="511200"/>
                <a:gridCol w="449280"/>
              </a:tblGrid>
              <a:tr h="282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EAN  - Serviço de Água e Esgoto de Artur Nogueir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issário Três Barra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7.405,5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.045,06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.450,6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EBAVI - Saneamento Básico de Vinhed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e Projeto Básico do Sistema de Tratamento, Desidratação e Disposição Final dos Lodos ds ETAs I e II no Município de Vinhed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.257,0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419,0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.676,11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ço Autônomo de Água e Esgoto de Cordeiró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 Projeto Básico da Estação de Tratamento de Água com Respectivo Licenciamento Ambiental no Municípoio de Cordeiró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.432,3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144,1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8.576,5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ço Muncipal de Água e Esgoto - SEMAE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ceptor de Margem Direita do Rio Piracicaba - IMD - 1 Trecho da Ponte Pedro Francisco Prudente à Estação Elevatória EE-1-MD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37.957,7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73.410,4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11.368,26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edade de Abastecimento de Água e Saneamento S/A - Sanasa Campina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e Esgotamento Sanitário Santa Bárbar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47.920,01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5.280,07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13.200,0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$  13.483.169,0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$  6.159.023,9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$ 19.642.192,96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20760" y="1117440"/>
          <a:ext cx="8572320" cy="642960"/>
        </p:xfrm>
        <a:graphic>
          <a:graphicData uri="http://schemas.openxmlformats.org/drawingml/2006/table">
            <a:tbl>
              <a:tblPr/>
              <a:tblGrid>
                <a:gridCol w="336600"/>
                <a:gridCol w="2071440"/>
                <a:gridCol w="2032200"/>
                <a:gridCol w="1085760"/>
                <a:gridCol w="1028520"/>
                <a:gridCol w="1057320"/>
                <a:gridCol w="511200"/>
                <a:gridCol w="449280"/>
              </a:tblGrid>
              <a:tr h="223920">
                <a:tc gridSpan="8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ÇÃO DE EMPREENDIMENTOS A SEREM INDICADOS PELOS COMITÊS PCJ EM 31/03/200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1" i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mador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iado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da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apartida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upo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20760" y="1974960"/>
          <a:ext cx="8572320" cy="838080"/>
        </p:xfrm>
        <a:graphic>
          <a:graphicData uri="http://schemas.openxmlformats.org/drawingml/2006/table">
            <a:tbl>
              <a:tblPr/>
              <a:tblGrid>
                <a:gridCol w="336600"/>
                <a:gridCol w="2071440"/>
                <a:gridCol w="2032200"/>
                <a:gridCol w="1085760"/>
                <a:gridCol w="1028520"/>
                <a:gridCol w="1057320"/>
                <a:gridCol w="511200"/>
                <a:gridCol w="449280"/>
              </a:tblGrid>
              <a:tr h="419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AE - Serviço Autônomo de Água e Esgotos (Indaiatuba)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ceptor (Coletor Tronco) de esgoto da margem direita do Rio Jundiaí - 2a fase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55.573,39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7.167,4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82.740,8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AE - Serviço Autônomo de Água e Esgotos (Indaiatuba)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antação das Ações do Plano Diretor de Combate às Perdas de Água (1a etapa)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00.058,8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00.039,2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00.098,0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CaixaDeTexto 4"/>
          <p:cNvSpPr/>
          <p:nvPr/>
        </p:nvSpPr>
        <p:spPr>
          <a:xfrm>
            <a:off x="320760" y="260280"/>
            <a:ext cx="850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99"/>
                </a:solidFill>
                <a:uFillTx/>
                <a:latin typeface="Arial"/>
              </a:rPr>
              <a:t>Distribuição de Recursos FEHIDRO/Cobranças PCJ 200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aixaDeTexto 4"/>
          <p:cNvSpPr/>
          <p:nvPr/>
        </p:nvSpPr>
        <p:spPr>
          <a:xfrm>
            <a:off x="320760" y="260280"/>
            <a:ext cx="850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99"/>
                </a:solidFill>
                <a:uFillTx/>
                <a:latin typeface="Arial"/>
              </a:rPr>
              <a:t>Distribuição de Recursos FEHIDRO/Cobranças PCJ 200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8280" y="1228680"/>
            <a:ext cx="849636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reendimentos com pendências (em análise): 35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tal de R$ solicitados: R$ 40.023.977,4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tal de R$ de contrapartida: R$ 12.888.039,28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ldo disponível estimado: R$ 22.100.000,0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ata prevista de deliberação (Etapa II): 2ª quinzena de maio/09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aixaDeTexto 9"/>
          <p:cNvSpPr/>
          <p:nvPr/>
        </p:nvSpPr>
        <p:spPr>
          <a:xfrm>
            <a:off x="1285920" y="554040"/>
            <a:ext cx="657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262699"/>
                </a:solidFill>
                <a:uFillTx/>
                <a:latin typeface="Arial"/>
              </a:rPr>
              <a:t>Arrecadaçã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71720" y="2143080"/>
          <a:ext cx="7143480" cy="2214720"/>
        </p:xfrm>
        <a:graphic>
          <a:graphicData uri="http://schemas.openxmlformats.org/drawingml/2006/table">
            <a:tbl>
              <a:tblPr/>
              <a:tblGrid>
                <a:gridCol w="1807920"/>
                <a:gridCol w="2684520"/>
                <a:gridCol w="2651040"/>
              </a:tblGrid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rança Federal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rança Paulista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0.724.111,0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2.779.237,6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1.255.202,6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7.211.880,4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2.800.000,0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40.715.229,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24.055.202,6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aixaDeTexto 9"/>
          <p:cNvSpPr/>
          <p:nvPr/>
        </p:nvSpPr>
        <p:spPr>
          <a:xfrm>
            <a:off x="714240" y="554040"/>
            <a:ext cx="771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262699"/>
                </a:solidFill>
                <a:uFillTx/>
                <a:latin typeface="Arial"/>
              </a:rPr>
              <a:t>Arrecadação Anual  - Cobrança Federal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38440" y="1852560"/>
          <a:ext cx="5667120" cy="31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852560"/>
                    <a:ext cx="56671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aixaDeTexto 9"/>
          <p:cNvSpPr/>
          <p:nvPr/>
        </p:nvSpPr>
        <p:spPr>
          <a:xfrm>
            <a:off x="857160" y="554040"/>
            <a:ext cx="7643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262699"/>
                </a:solidFill>
                <a:uFillTx/>
                <a:latin typeface="Arial"/>
              </a:rPr>
              <a:t>Arrecadação Anual  - Cobrança Paulista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38440" y="1852560"/>
          <a:ext cx="5667120" cy="31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852560"/>
                    <a:ext cx="56671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tângulo com Canto Diagonal Aparado 11"/>
          <p:cNvGrpSpPr/>
          <p:nvPr/>
        </p:nvGrpSpPr>
        <p:grpSpPr>
          <a:xfrm>
            <a:off x="298440" y="2322360"/>
            <a:ext cx="8540640" cy="2975040"/>
            <a:chOff x="298440" y="2322360"/>
            <a:chExt cx="8540640" cy="2975040"/>
          </a:xfrm>
        </p:grpSpPr>
        <p:pic>
          <p:nvPicPr>
            <p:cNvPr id="70" name="Retângulo com Canto Diagonal Aparado 11" descr=""/>
            <p:cNvPicPr/>
            <p:nvPr/>
          </p:nvPicPr>
          <p:blipFill>
            <a:blip r:embed="rId1"/>
            <a:stretch/>
          </p:blipFill>
          <p:spPr>
            <a:xfrm>
              <a:off x="298440" y="2322360"/>
              <a:ext cx="854064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95440" y="2595600"/>
              <a:ext cx="7953120" cy="23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CaixaDeTexto 3"/>
          <p:cNvSpPr/>
          <p:nvPr/>
        </p:nvSpPr>
        <p:spPr>
          <a:xfrm>
            <a:off x="642960" y="785880"/>
            <a:ext cx="7858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262699"/>
                </a:solidFill>
                <a:uFillTx/>
                <a:latin typeface="Arial"/>
              </a:rPr>
              <a:t>Distribuição de Recursos nos Comitês PCJ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4"/>
          <p:cNvSpPr/>
          <p:nvPr/>
        </p:nvSpPr>
        <p:spPr>
          <a:xfrm>
            <a:off x="500040" y="2714760"/>
            <a:ext cx="814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FEHIDRO</a:t>
            </a: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                                 FEHIDRO + Cob. Federal</a:t>
            </a: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        FEHIDRO + Cob. Federal + Cob. Paulista</a:t>
            </a: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ector de seta reta 6"/>
          <p:cNvCxnSpPr/>
          <p:nvPr/>
        </p:nvCxnSpPr>
        <p:spPr>
          <a:xfrm>
            <a:off x="2356920" y="2927520"/>
            <a:ext cx="47156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Conector de seta reta 8"/>
          <p:cNvCxnSpPr/>
          <p:nvPr/>
        </p:nvCxnSpPr>
        <p:spPr>
          <a:xfrm>
            <a:off x="2714400" y="3571920"/>
            <a:ext cx="2500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Conector de seta reta 10"/>
          <p:cNvCxnSpPr/>
          <p:nvPr/>
        </p:nvCxnSpPr>
        <p:spPr>
          <a:xfrm>
            <a:off x="2642760" y="4285800"/>
            <a:ext cx="7866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Conector reto 14"/>
          <p:cNvSpPr/>
          <p:nvPr/>
        </p:nvSpPr>
        <p:spPr>
          <a:xfrm>
            <a:off x="7215120" y="3071880"/>
            <a:ext cx="128592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to 15"/>
          <p:cNvSpPr/>
          <p:nvPr/>
        </p:nvSpPr>
        <p:spPr>
          <a:xfrm>
            <a:off x="5286240" y="3786120"/>
            <a:ext cx="128592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ector reto 16"/>
          <p:cNvSpPr/>
          <p:nvPr/>
        </p:nvSpPr>
        <p:spPr>
          <a:xfrm>
            <a:off x="3429000" y="4500720"/>
            <a:ext cx="128592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ector reto 17"/>
          <p:cNvSpPr/>
          <p:nvPr/>
        </p:nvSpPr>
        <p:spPr>
          <a:xfrm>
            <a:off x="6858000" y="3786120"/>
            <a:ext cx="16430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ector reto 19"/>
          <p:cNvSpPr/>
          <p:nvPr/>
        </p:nvSpPr>
        <p:spPr>
          <a:xfrm>
            <a:off x="5000760" y="4500720"/>
            <a:ext cx="16430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ector reto 20"/>
          <p:cNvSpPr/>
          <p:nvPr/>
        </p:nvSpPr>
        <p:spPr>
          <a:xfrm>
            <a:off x="6858000" y="4500720"/>
            <a:ext cx="1643040" cy="1440"/>
          </a:xfrm>
          <a:prstGeom prst="line">
            <a:avLst/>
          </a:prstGeom>
          <a:ln w="381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143000" y="642960"/>
          <a:ext cx="7000920" cy="2286000"/>
        </p:xfrm>
        <a:graphic>
          <a:graphicData uri="http://schemas.openxmlformats.org/drawingml/2006/table">
            <a:tbl>
              <a:tblPr/>
              <a:tblGrid>
                <a:gridCol w="1652760"/>
                <a:gridCol w="3071520"/>
                <a:gridCol w="2276640"/>
              </a:tblGrid>
              <a:tr h="4158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so  </a:t>
                      </a: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BRANÇA FEDERAL PCJ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7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do em empreendimentos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 empreendimentos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9.282.283,3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0.644.884,6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3.558.429,9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143000" y="3357720"/>
          <a:ext cx="7000920" cy="2286000"/>
        </p:xfrm>
        <a:graphic>
          <a:graphicData uri="http://schemas.openxmlformats.org/drawingml/2006/table">
            <a:tbl>
              <a:tblPr/>
              <a:tblGrid>
                <a:gridCol w="1652760"/>
                <a:gridCol w="3071520"/>
                <a:gridCol w="2276640"/>
              </a:tblGrid>
              <a:tr h="38232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so </a:t>
                      </a: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BRANÇA PAULISTA PCJ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do em empreendimentos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 empreendimentos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9.424.825,9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1.721.851,6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84120" y="1557360"/>
            <a:ext cx="4919760" cy="38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394240" y="2852640"/>
            <a:ext cx="3630600" cy="129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Rectangle 4"/>
          <p:cNvSpPr/>
          <p:nvPr/>
        </p:nvSpPr>
        <p:spPr>
          <a:xfrm>
            <a:off x="0" y="62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ecursos financeiros das cobranças PCJ em 2007: valores nominai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CJ com texto"/>
          <p:cNvPicPr/>
          <p:nvPr/>
        </p:nvPicPr>
        <p:blipFill>
          <a:blip r:embed="rId4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19:32:35Z</dcterms:created>
  <dc:creator>Alexandre Vilella</dc:creator>
  <dc:description/>
  <dc:language>en-US</dc:language>
  <cp:lastModifiedBy>DAEE </cp:lastModifiedBy>
  <dcterms:modified xsi:type="dcterms:W3CDTF">2009-03-11T18:23:55Z</dcterms:modified>
  <cp:revision>724</cp:revision>
  <dc:subject/>
  <dc:title>Apresentação do PowerPoint</dc:title>
</cp:coreProperties>
</file>